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32CE-0F57-44B9-8690-99CD7646186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74CA-6463-457B-BBA2-7299BB3B7FB0}" type="slidenum"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6FC5-CA63-4BB9-8E3E-1572AB62035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9F8-79BE-46A5-8436-F8E35D8F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440D-0B01-4507-96A9-CAEFD92C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DA25D-B25B-44F8-AF11-161378F3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64AA7-9FD8-417D-A8D9-08EBE4B4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D606E-AE37-4BC0-B126-D8CB5CA0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D9558-94B6-4F6B-A2BA-86BDE2C6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EB0E6-AF17-4A16-BC96-94235176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51D13-186E-4C33-B70F-C626B6B7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E56D0-1F9D-4731-B153-3DF6A84F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7507B-CF74-4701-83BA-F829EB7C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261FD-6B55-4C09-90D0-D2FE22D5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F96E0-C63A-432E-BE18-266FA6B1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D7C-64D7-4F17-98F3-137D71C1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6FE78-3A02-4F5F-BF83-9D5C064A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7829A-A490-41AB-BB84-C4341745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317C4-6D0E-466B-865E-96DF4F08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E9691-8E18-47FF-A0EF-BC55F3E2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A5FAC-1902-45EF-B2B8-888A5315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970AC-DF17-40D6-A144-6071B28F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E204E-1A91-4F74-9E90-92BBCF98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D4ADE-F88F-4307-80E4-196B2C9F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5D390-8CA3-4606-9DEF-FE6D1DC2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860E8-5BC6-47A4-B17F-0DFCBCFE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474-0323-4D5D-94EF-D1306A2D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01FA3-78AC-46A4-B793-C3F474CE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E1EC3-C555-4036-8FD1-A703E414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4C74F-332E-47DB-A07C-32C39101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F9DDC-C471-493F-9E11-0A2AF9C5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AE926-343B-4CF4-B63B-B3D71F13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D82AC-3BF8-4240-9963-036CEF3C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0FF8D-875D-4EAF-8577-11072326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087FA-4D35-4A3A-892E-328E2375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CA309-982C-4FDC-8049-7E2F60AC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2F5D8-ACA0-4DEF-B0FC-7EA11F2F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2767-06DF-44BA-94F0-7D4BBCB4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A33AC-F275-4898-A8F8-8E82E15A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0A164-5158-49C3-99B4-4FEAF08D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0C61C-770F-4A9F-908D-5C11BE3B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83586-B595-448E-BF74-F128EE0E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1484D-C2F3-467E-B781-EA97B307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45CC5-1957-42E9-A160-A444F1A8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5A481-4FF7-410F-B286-1F7BC8AD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63AED-50DE-42B4-A3C1-835198C0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D9C90-C26B-452E-8D73-375A5D87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77A66-F068-433E-B94D-9327005D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F0A7-65D8-4C73-A5B3-26665C6E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F5308-5375-474E-8DE4-997417E9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EAC52-547A-407A-8D54-5AB58E45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1DCEB-B366-42F4-8363-D21D26AA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BB83B-8211-4D44-9F8B-B825D479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DA4BF-BAB8-4842-83AD-ABF26D55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D280E-CF1E-45DB-AE95-8A592827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E8712-50A6-4FDE-A827-DAACE5AD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F47C7-3810-4489-8A3B-002F5ABE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E66ECE-C551-48F1-BF42-01F49C08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4B1C9-F76E-4D2D-B04E-B8A37048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A2E0-8355-4E30-BD56-E5EEF555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0E7AE-B620-4764-B79E-92C9D69D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9F1C8-3C41-4C46-A60B-B744AE7D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A7A9D-B8EC-415E-9BD4-25006F0F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BF1A6-BD30-4D3D-A85E-2C56518A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B9F65-1297-4675-9FE3-3CCC0E62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A65D2-0E04-4405-80B2-ED08174E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ACAD41-F39A-40C4-A999-ACE27D30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7AD14-7955-4109-9EB9-EF51E649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A0387-ACDB-4B07-9ACF-56572C30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8CABE1-CDC9-4E3D-BB9A-030A0A02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E0F9-1FB6-4F37-87E1-28902C64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8A56F-E554-4E92-8E9B-757FF223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6A5EF-8A1F-4D71-8A8F-A71ADB0D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9F930-D7F5-4AFD-BF8E-C23256DA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E2CC2-3182-4EAF-8504-ABBA3F3A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F0534-48F1-415A-9269-8CAA5F97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43DDD9-4334-4CED-9A31-80F79BB8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4D5F65-FAA5-43CE-880D-1E0EC91F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E938BF-C17B-4EF4-8F52-E720E87B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A30F32-3EAA-44E7-A4C7-49AABFC7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7E52-5760-4820-9521-115FA7FC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5BEA-5840-45ED-8FAB-D8D818CA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2FC6-6CE3-4CFF-BCBB-B1633F88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287-E65E-4FD5-B3D6-2A6AC269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5B43-C50A-4544-8000-8315CC1E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7903-B8EB-4229-8B65-826B8C17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CD0A-32D6-49EF-AC1C-BC1D80A0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010E-AD09-4E9F-9120-B100FDB7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7ABC-762B-4B33-AE11-ACD02F15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56036-7FB1-406E-AD5D-D0C63D63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24F78-4BEA-41AA-9884-21CA53B1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F3300-8792-4F47-BCB8-15F8A7DC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A80A-15AC-4E7E-9FE5-A7A49B7D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68751-0448-4CC8-AB02-63AF2F85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A93-E5E4-4437-9508-7EBB299F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9607-73DF-406E-AA74-AB8BEB95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67D19-0E2A-454E-9ADF-F450D12D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8F36-CF3C-428C-9B63-8ECBE5E2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46FE4-7AFB-4A94-919D-41321D63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9A911-7E62-4A29-8F02-7D6659A6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BBCD8-A926-4C8A-90A8-61B4D83F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C851C-1009-46D1-8F3E-937673FF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0004D-36B6-4D9C-9F95-DD75850C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2D312-E1AF-44C0-8FA6-16086143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EDFE4-5575-46C7-8AC3-78C5E5F6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B10-2656-4464-BAF9-AB6C8943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4A7E7-C662-4DFC-AE16-03A296CC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98D76-9C7E-4F1C-A238-222C0122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ADE6F-84F1-48A2-835F-2FA4B672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2F456-C973-4717-BBDF-93110434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8F106-AAAD-457D-AAA1-39F6FBBA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09CC2-5E25-44EA-BA17-7FE64212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31E89-AB49-4661-A9D7-D00FFB60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4EBF3-ACC3-496B-B44D-E33E41D1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A0C8D-8AE0-44EC-BB9D-0EAC39E8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CA0DE-5855-42D1-B3C3-0C32917A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34E-AB77-4CDB-BEDB-54CEF1CB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26769-2359-4E9E-9CF6-4476FA87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DF939-FC60-4F7F-BFBD-43213147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79235-0BF8-4818-8B1D-127A9EE9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F064B-2405-4A7A-879A-ADE8C6E5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E3CAF-BDC3-4BA5-8F54-E9CEF52F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EAFB5-8F49-4557-8077-264D5F82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80468-5C96-40C5-9523-A4BCBF3C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CC6AB-F0C7-4AC1-82AC-4EE457F4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DA541-DC03-4608-B849-1F7F16DD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1A711-89BC-4EF4-889B-F8D0D676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050-8CDB-4342-B56A-6B7299A8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4EB00-FBEA-4FE6-95E0-5839F6F1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EFF16-B1BB-4DD0-BB38-CCD8902E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05F6E-2C6C-482D-B019-030B95A6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C9A60-B3B4-4D29-9A42-E0951A44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43C17-71CC-4D59-9590-4C716FEA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0EC78-FC67-43CB-8F6D-572F35A6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1A5F3-F1AC-43BA-8CDB-8451EF87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323F8-C245-4D39-95A3-B7DFF858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34EB5-A72E-4ED0-A279-0118E6CD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89E0B-38AD-470C-ACC7-E9C9B3BB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2EE-18A2-4453-A7A6-F9050518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E4936-726B-498C-A03F-1601E24D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CFEF1-7B03-46C4-A989-A67EA832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779C5-CBBE-45AE-A4CC-A02AE7CD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864D9-CDDC-46E5-A09B-7D257B9F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6AEA3-A1CA-49DC-9166-2F9F94D3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0FA19-6138-4295-8999-B03D6AA0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7F236-1A24-4D46-AD49-A0E66319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40E95-7A99-42E1-9862-D9863CBA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523F0-7B53-4412-B46A-A4F6D19A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2A2BA-4178-4D26-9678-E04DAC24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AC1-DBCA-4CCE-A976-9276C7CB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905C6-AAD1-4D03-828F-1174DD11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32CF0-7A19-412E-ACE1-7B76C3E3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B5EBA-8CE8-4125-BCC3-B4FA01EE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E985F-30C7-439B-9BFA-95389D4E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2595F-4354-4F5A-ACF7-6B218289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D4833-0969-4EA6-9C97-12085DA6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67937-CDE8-40C8-9BBC-769F3360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EB151-9C48-4FFC-8028-5FFBC2D9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69366-DA10-4402-AECD-F0455E74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8C562-84EE-491B-ACA4-802BE24C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60D-E5ED-4A0D-816C-E7C38FE5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28560" y="539280"/>
            <a:ext cx="741384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48BFB-C877-41A9-93E8-0BEF5F34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74317-F5D9-4AF4-B0EB-C56FC5F5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AC49A-D410-422C-9084-1E2E7D91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99276-5299-4E0E-A56A-1719FFAF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8560" y="3918240"/>
            <a:ext cx="74138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DDC9F-8CD5-45D9-80BC-1E07B647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427640" y="190656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856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427640" y="3918240"/>
            <a:ext cx="361764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515BF-E858-4CAB-AD08-52CAB13C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3560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642280" y="190656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856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3560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642280" y="3918240"/>
            <a:ext cx="23871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07A11-79EC-4D5F-A68F-4FB2E56D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1F3CE-713A-46CB-91A5-D572C6B8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E3409-F487-4A2B-900B-70E24190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6137E-3A86-4F55-A3CE-986566A5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A964-7892-4BE1-9356-0EA53329B56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6DA3-1886-4610-8653-9D7A522E7E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D705-2254-4A3D-9027-0198E0EDF9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F5C3-EAB1-4A1A-8E6F-8139858F71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7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8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9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2331-236D-45BE-BB95-7B1EB4CAD8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1266-0CC3-4B16-B1E5-14E92B0C39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2362320" y="752400"/>
            <a:ext cx="3962160" cy="1246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"/>
          <p:cNvPicPr/>
          <p:nvPr/>
        </p:nvPicPr>
        <p:blipFill>
          <a:blip r:embed="rId3"/>
          <a:stretch/>
        </p:blipFill>
        <p:spPr>
          <a:xfrm>
            <a:off x="3809880" y="5710320"/>
            <a:ext cx="1524240" cy="61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631D-5BA8-4A7E-9EBE-CEA5C9C9B1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998B-9BF5-41C0-B43E-E38C570275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95F0-0B1E-4AA5-B59A-5F716AB0B6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1F9E-918E-4F71-AC03-BDDAF091FF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DE62-D937-43C4-BD81-D03E386B5F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FB84-6E0C-4392-945C-6A476AE97B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DD6C-5947-4ECE-B5B3-FE88E02FBF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bgerundetes Rechteck 11"/>
          <p:cNvSpPr/>
          <p:nvPr/>
        </p:nvSpPr>
        <p:spPr>
          <a:xfrm>
            <a:off x="693720" y="322200"/>
            <a:ext cx="7916760" cy="10008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bgerundetes Rechteck 11"/>
          <p:cNvSpPr/>
          <p:nvPr/>
        </p:nvSpPr>
        <p:spPr>
          <a:xfrm>
            <a:off x="770040" y="5867280"/>
            <a:ext cx="7916760" cy="49320"/>
          </a:xfrm>
          <a:custGeom>
            <a:avLst/>
            <a:gdLst/>
            <a:ahLst/>
            <a:rect l="l" t="t" r="r" b="b"/>
            <a:pathLst>
              <a:path w="4735902" h="120770">
                <a:moveTo>
                  <a:pt x="0" y="20129"/>
                </a:moveTo>
                <a:cubicBezTo>
                  <a:pt x="0" y="9012"/>
                  <a:pt x="9012" y="0"/>
                  <a:pt x="20129" y="0"/>
                </a:cubicBezTo>
                <a:lnTo>
                  <a:pt x="4715773" y="0"/>
                </a:lnTo>
                <a:cubicBezTo>
                  <a:pt x="4726890" y="0"/>
                  <a:pt x="4735902" y="9012"/>
                  <a:pt x="4735902" y="20129"/>
                </a:cubicBezTo>
                <a:lnTo>
                  <a:pt x="4735902" y="100641"/>
                </a:lnTo>
                <a:cubicBezTo>
                  <a:pt x="4735902" y="111758"/>
                  <a:pt x="4726890" y="120770"/>
                  <a:pt x="4715773" y="120770"/>
                </a:cubicBezTo>
                <a:lnTo>
                  <a:pt x="20129" y="120770"/>
                </a:lnTo>
                <a:cubicBezTo>
                  <a:pt x="9012" y="120770"/>
                  <a:pt x="0" y="111758"/>
                  <a:pt x="0" y="100641"/>
                </a:cubicBezTo>
                <a:lnTo>
                  <a:pt x="0" y="20129"/>
                </a:lnTo>
                <a:close/>
              </a:path>
            </a:pathLst>
          </a:custGeom>
          <a:solidFill>
            <a:srgbClr val="1b913a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2"/>
          <a:stretch/>
        </p:blipFill>
        <p:spPr>
          <a:xfrm>
            <a:off x="7580160" y="6019920"/>
            <a:ext cx="1133640" cy="453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2" descr=""/>
          <p:cNvPicPr/>
          <p:nvPr/>
        </p:nvPicPr>
        <p:blipFill>
          <a:blip r:embed="rId3"/>
          <a:stretch/>
        </p:blipFill>
        <p:spPr>
          <a:xfrm>
            <a:off x="533520" y="597384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539280"/>
            <a:ext cx="7413840" cy="12956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28560" y="1906560"/>
            <a:ext cx="741384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 marL="343080" indent="0">
              <a:spcBef>
                <a:spcPts val="4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20000"/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400"/>
              </a:spcAft>
              <a:buClr>
                <a:srgbClr val="1b913a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45684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5/25/2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6675120"/>
            <a:ext cx="289584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6552720" y="6675120"/>
            <a:ext cx="2133720" cy="1443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DE40-0629-4B92-AFFD-B7B19BCA65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17360" y="4800600"/>
            <a:ext cx="7592760" cy="129528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404040"/>
                </a:solidFill>
                <a:latin typeface="Arial Rounded MT Bold"/>
              </a:rPr>
              <a:t>Λευκωσία, Ιούλιος 20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838080" y="2438280"/>
            <a:ext cx="7593120" cy="13701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ctr" anchorCtr="1">
            <a:noAutofit/>
          </a:bodyPr>
          <a:p>
            <a:pPr indent="0" algn="ctr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404040"/>
                </a:solidFill>
                <a:latin typeface="Arial"/>
              </a:rPr>
              <a:t>«Από τον αμπελώνα στο τραπέζι μα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egnaposto data 3"/>
          <p:cNvSpPr/>
          <p:nvPr/>
        </p:nvSpPr>
        <p:spPr>
          <a:xfrm>
            <a:off x="45720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Λευκωσία, Ιούλιος 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egnaposto numero diapositiva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EBB1-6D50-49E2-8735-CF3E03A68A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ttangolo 9"/>
          <p:cNvSpPr/>
          <p:nvPr/>
        </p:nvSpPr>
        <p:spPr>
          <a:xfrm>
            <a:off x="466560" y="266688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ww.foodanddrinkeurope.e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Grafik 3" descr=""/>
          <p:cNvPicPr/>
          <p:nvPr/>
        </p:nvPicPr>
        <p:blipFill>
          <a:blip r:embed="rId1"/>
          <a:stretch/>
        </p:blipFill>
        <p:spPr>
          <a:xfrm>
            <a:off x="6858000" y="1903320"/>
            <a:ext cx="1601640" cy="104004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"/>
          <p:cNvSpPr/>
          <p:nvPr/>
        </p:nvSpPr>
        <p:spPr>
          <a:xfrm>
            <a:off x="2716200" y="1289880"/>
            <a:ext cx="4114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eLearning Resource has been develope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prus Food and Nutrition Museu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in the Europeana Food and Drink Project, demonstrating the value and potential of food and drink-related content sourced through Europea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Calibri"/>
              </a:rPr>
              <a:t>The project is funded by the European Commission under the ICT Policy Support Programme part of the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Calibri"/>
              </a:rPr>
              <a:t>Competitiveness and Innovation Framework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735360" y="4819680"/>
            <a:ext cx="213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uropeana Food and Drink  consortium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"/>
          <p:cNvSpPr/>
          <p:nvPr/>
        </p:nvSpPr>
        <p:spPr>
          <a:xfrm>
            <a:off x="1562040" y="5582520"/>
            <a:ext cx="617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work is licensed under a Creative Commons Attribution 4.0 International Licen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2" descr="Creative Commons License"/>
          <p:cNvPicPr/>
          <p:nvPr/>
        </p:nvPicPr>
        <p:blipFill>
          <a:blip r:embed="rId2"/>
          <a:stretch/>
        </p:blipFill>
        <p:spPr>
          <a:xfrm>
            <a:off x="7848720" y="5532480"/>
            <a:ext cx="838080" cy="295200"/>
          </a:xfrm>
          <a:prstGeom prst="rect">
            <a:avLst/>
          </a:prstGeom>
          <a:ln w="0">
            <a:noFill/>
          </a:ln>
        </p:spPr>
      </p:pic>
      <p:pic>
        <p:nvPicPr>
          <p:cNvPr id="645" name="Grafik 2" descr=""/>
          <p:cNvPicPr/>
          <p:nvPr/>
        </p:nvPicPr>
        <p:blipFill>
          <a:blip r:embed="rId3"/>
          <a:stretch/>
        </p:blipFill>
        <p:spPr>
          <a:xfrm>
            <a:off x="880920" y="1011240"/>
            <a:ext cx="1157400" cy="1655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5" descr=""/>
          <p:cNvPicPr/>
          <p:nvPr/>
        </p:nvPicPr>
        <p:blipFill>
          <a:blip r:embed="rId4"/>
          <a:stretch/>
        </p:blipFill>
        <p:spPr>
          <a:xfrm>
            <a:off x="4240080" y="3411360"/>
            <a:ext cx="1067040" cy="12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60040" y="4723920"/>
            <a:ext cx="7413480" cy="68580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404040"/>
                </a:solidFill>
                <a:latin typeface="Arial"/>
              </a:rPr>
              <a:t>Ενότητα γ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egnaposto numero diapositiva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4C96-FB2F-4D88-BAAE-7FD41B109B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"/>
          <p:cNvPicPr/>
          <p:nvPr/>
        </p:nvPicPr>
        <p:blipFill>
          <a:blip r:embed="rId1"/>
          <a:stretch/>
        </p:blipFill>
        <p:spPr>
          <a:xfrm>
            <a:off x="2971800" y="1238400"/>
            <a:ext cx="319248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2640" y="5105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s://www.youtube.com/watch?v=SbbSBnI-Hb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egnaposto numero diapositiva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B4ED-5626-470E-8FBC-688520B0C4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Παραγωγή Κρασιού στην Κύπρο.mp4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3132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1760" y="5181480"/>
            <a:ext cx="7413480" cy="52704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s://www.youtube.com/watch?v=7CIRq5QG0bU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3AF2-69E6-4B3F-A2EB-C6CF797F4E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Sideways - Are You Chewing Gum.mp4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1102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160" y="4648320"/>
            <a:ext cx="7848360" cy="45072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haelides, D. (1992)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ypriot Mosaic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 Nicosia: Department of Antiquitie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, 37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EC3C-2CBE-409C-8046-8B8690A6A8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1025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5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A828-0C4B-41CD-9328-A960AACBB8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2" descr=""/>
          <p:cNvPicPr/>
          <p:nvPr/>
        </p:nvPicPr>
        <p:blipFill>
          <a:blip r:embed="rId1"/>
          <a:srcRect l="82467" t="-422" r="-182" b="432"/>
          <a:stretch/>
        </p:blipFill>
        <p:spPr>
          <a:xfrm>
            <a:off x="5715000" y="914400"/>
            <a:ext cx="2057400" cy="48909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6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38862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762120" y="12189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Calibri"/>
              </a:rPr>
              <a:t>Συγγραφ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Νατάσα Χαραλάμπους - Μουσείο Κυπριακών Τροφίμων και Διατροφή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haralambous.natasa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yfoodmuseum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Calibri"/>
              </a:rPr>
              <a:t>Εποπτική/Συμβουλευτική Ομάδ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Στάλω Λαζάρου - Μουσείο Κυπριακών Τροφίμων και Διατροφή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Εύα Νεοφύτου - Υπουργείο Παιδείας και Πολιτισμο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Δέσπω Λοϊζου - Υπουργείο Παιδείας και Πολιτισμο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Calibri"/>
              </a:rPr>
              <a:t>Κατερίνα Μάτσα - Εκπαιδευτικός/Θεατρολόγ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egnaposto data 4"/>
          <p:cNvSpPr/>
          <p:nvPr/>
        </p:nvSpPr>
        <p:spPr>
          <a:xfrm>
            <a:off x="45720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Λευκωσία, Ιούλιος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egnaposto numero diapositiva 6"/>
          <p:cNvSpPr/>
          <p:nvPr/>
        </p:nvSpPr>
        <p:spPr>
          <a:xfrm>
            <a:off x="6553080" y="6675480"/>
            <a:ext cx="2133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6A41-3538-4A9C-990E-34DDDE3D62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19:50:36Z</dcterms:created>
  <dc:creator>Arianna Giuliani (Museo del Cioccolato);Emmanuel Mazzucchi (DigiLab Sapienza)</dc:creator>
  <dc:description/>
  <cp:keywords>Food and Drink Europe Open Educational Resources</cp:keywords>
  <dc:language>en-US</dc:language>
  <cp:lastModifiedBy>Natasa Charalambous</cp:lastModifiedBy>
  <dcterms:modified xsi:type="dcterms:W3CDTF">2015-07-15T22:45:47Z</dcterms:modified>
  <cp:revision>49</cp:revision>
  <dc:subject>Food and Drink</dc:subject>
  <dc:title>Museo Del Cioccolato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438C5FEF74F9443A5EA2DD155643AD2</vt:lpwstr>
  </property>
  <property fmtid="{D5CDD505-2E9C-101B-9397-08002B2CF9AE}" pid="3" name="TaxCatchAll">
    <vt:lpwstr>270;#Food and drink;#1438;#Open Educational Resources;#1437;#Europe</vt:lpwstr>
  </property>
  <property fmtid="{D5CDD505-2E9C-101B-9397-08002B2CF9AE}" pid="4" name="TaxKeyword">
    <vt:lpwstr>270;#Food and drink|86b18f41-7aea-4cbd-a8f5-1f30581748ea;#1438;#Open Educational Resources|7c19c98a-eccc-4349-95a1-48f028d2aa69;#1437;#Europe|ed74af8d-fb26-4450-9f7d-b2780cc34457</vt:lpwstr>
  </property>
  <property fmtid="{D5CDD505-2E9C-101B-9397-08002B2CF9AE}" pid="5" name="TaxKeywordTaxHTField">
    <vt:lpwstr>Food and drink|86b18f41-7aea-4cbd-a8f5-1f30581748ea;Open Educational Resources|7c19c98a-eccc-4349-95a1-48f028d2aa69;Europe|ed74af8d-fb26-4450-9f7d-b2780cc34457</vt:lpwstr>
  </property>
</Properties>
</file>